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28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14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B3B-0513-4148-9EE8-DC5B6E93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18C-F4E4-4F74-A3E5-BB633CF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03D-5FB3-4711-A66C-D3B1297F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ED5-258F-4BA2-8A4D-340F2FF4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6D4-E76D-49BB-BB5E-ACB17D99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E3D-E5E9-4D52-9CD7-35F8FA64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E67-87AD-41BC-BD89-91CFB60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733-B4EC-4391-9321-C092D7B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255-5F73-4F26-8088-2551584B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539-98CD-4F1D-AFD0-ED53C08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241-7BD4-4C73-A757-7B5B90B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21D-2401-4A64-AEAA-50BAB54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C2A-09BB-4E03-89BA-1CCA96AF7E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266688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0000"/>
                </a:solidFill>
                <a:latin typeface="Arial"/>
                <a:ea typeface="Arial"/>
              </a:rPr>
              <a:t>Физиологија бубре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4573440" y="58672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Проф. др Сузана Пант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09480" y="358128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ална морфологија бубрег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убрежна циркулациј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омерулска филтрациј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ија тубул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струјни механизам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ација излучивања воде и електролит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ација састава и запремине екстрацелуларне течности. Улога бубрега у регулацији рН вредности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514600" y="114300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454560" y="141300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803760" y="1828800"/>
            <a:ext cx="1933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наставна ј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1333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Функционална грађ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гломерулске мемб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137160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ломерулска капиларна мембран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је слична мембрани осталих капилара с тим ш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ма три слој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тел капилар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фенестрира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азалну мембран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састављена од мреже колагена и протеогликанских филамената који 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ој епителних ћелиј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имају процепе тзв. пукотинасте поре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у наелектрисан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343400" y="990720"/>
            <a:ext cx="4572000" cy="4952880"/>
          </a:xfrm>
          <a:prstGeom prst="rect">
            <a:avLst/>
          </a:prstGeom>
          <a:noFill/>
          <a:ln w="2232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4038480" y="762120"/>
            <a:ext cx="4919760" cy="5882760"/>
            <a:chOff x="4038480" y="762120"/>
            <a:chExt cx="4919760" cy="5882760"/>
          </a:xfrm>
        </p:grpSpPr>
        <p:grpSp>
          <p:nvGrpSpPr>
            <p:cNvPr id="78" name="Group 10"/>
            <p:cNvGrpSpPr/>
            <p:nvPr/>
          </p:nvGrpSpPr>
          <p:grpSpPr>
            <a:xfrm>
              <a:off x="4114440" y="838080"/>
              <a:ext cx="4843800" cy="5806800"/>
              <a:chOff x="4114440" y="838080"/>
              <a:chExt cx="4843800" cy="5806800"/>
            </a:xfrm>
          </p:grpSpPr>
          <p:pic>
            <p:nvPicPr>
              <p:cNvPr id="7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440" y="838080"/>
                <a:ext cx="4843800" cy="55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Rectangle 5"/>
              <p:cNvSpPr/>
              <p:nvPr/>
            </p:nvSpPr>
            <p:spPr>
              <a:xfrm>
                <a:off x="4471200" y="5943960"/>
                <a:ext cx="44208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Слика: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Структу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гломерула.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Мали правоугаоник у углу: п</a:t>
                </a: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ресек кроз васкуларни пол који показује капиларну петљу гломерулски капилари у Боумановој чахури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Г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Увећање дела  гломерулске капиларне мембране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2"/>
            <a:stretch/>
          </p:blipFill>
          <p:spPr>
            <a:xfrm>
              <a:off x="4038480" y="762120"/>
              <a:ext cx="2286000" cy="19810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ице (дијаметар пора гломерулске мембране 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естице (базална мембрана садржи негативно наелектрисане протеоглика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пител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ћелиј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 су такођ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не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Албумини имају дијаметар од 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m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али не пролазе гломерулску мембрану због тога што су негативно наелектрисан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став гломерулског филтрата одговара саставу плазме без протеина (мање од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0.3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4224240" y="762120"/>
            <a:ext cx="4919760" cy="5882760"/>
            <a:chOff x="4224240" y="762120"/>
            <a:chExt cx="4919760" cy="5882760"/>
          </a:xfrm>
        </p:grpSpPr>
        <p:grpSp>
          <p:nvGrpSpPr>
            <p:cNvPr id="84" name="Group 10"/>
            <p:cNvGrpSpPr/>
            <p:nvPr/>
          </p:nvGrpSpPr>
          <p:grpSpPr>
            <a:xfrm>
              <a:off x="4300200" y="838080"/>
              <a:ext cx="4843800" cy="5806800"/>
              <a:chOff x="4300200" y="838080"/>
              <a:chExt cx="4843800" cy="5806800"/>
            </a:xfrm>
          </p:grpSpPr>
          <p:pic>
            <p:nvPicPr>
              <p:cNvPr id="8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0200" y="838080"/>
                <a:ext cx="4843800" cy="55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Rectangle 5"/>
              <p:cNvSpPr/>
              <p:nvPr/>
            </p:nvSpPr>
            <p:spPr>
              <a:xfrm>
                <a:off x="4656960" y="5943960"/>
                <a:ext cx="44208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Слика: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Структу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гломерула.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Мали правоугаоник у углу: п</a:t>
                </a:r>
                <a:r>
                  <a:rPr b="0" lang="sr-CS" sz="1000" spc="-1" strike="noStrike">
                    <a:solidFill>
                      <a:srgbClr val="000000"/>
                    </a:solidFill>
                    <a:latin typeface="Arial"/>
                  </a:rPr>
                  <a:t>ресек кроз васкуларни пол који показује капиларну петљу гломерулски капилари у Боумановој чахури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Г)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Увећање дела  гломерулске капиларне мембране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4224240" y="762120"/>
              <a:ext cx="2286000" cy="19810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</p:grpSp>
      <p:sp>
        <p:nvSpPr>
          <p:cNvPr id="88" name="Rectangle 8"/>
          <p:cNvSpPr/>
          <p:nvPr/>
        </p:nvSpPr>
        <p:spPr>
          <a:xfrm>
            <a:off x="228600" y="6094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тичу на пропус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љив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 гломерулске мемб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татск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у гломерул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м капилар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повећава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редња вредност гломерулског притиска износ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татск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у Bowman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 капсули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смањује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ок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-осмотски притисак плазм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смањује филтраци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редња вредност ок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mHg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8 mmHg на почетку и 36 mmHg на крају гломерулских капилара због филтрирања 20% плазм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о-осмотски притисак у Bowman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 капсул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mmHg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ма филтрације протеина у гломерули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утичу на филтрацију течности у гломерулима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441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они притисак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о-притисак који узрокује филтрацију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лтрациони коефицијент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5 ml/мин/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чина гломерулске филтрације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l/мин (18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ја филтр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личина гломерулске филтрације : проток плазме кроз бубреге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6094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 које утичу на филтрацију течности у гломерулима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148360" y="1219320"/>
            <a:ext cx="3995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Квантитативни односи тубулских процеса за поједин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52280" y="2286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c0000"/>
                </a:solidFill>
                <a:uFillTx/>
                <a:latin typeface="Times New Roman"/>
              </a:rPr>
              <a:t>Тубулска реапсорп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лтрација=брзина гломеру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 филтрациј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лазм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апсорпција – селективан процес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85800" y="2209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у нормалним, физиолошким условима износ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78.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/да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А. Трансцелуларни тран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тивни транспорти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) примарн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Nа,К-АТP-аза, секреција H јона (завршни дистални тубул)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) секундар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ранспорт глукозе или аминокиселина са натријумом, контратранспорт H/Nа јона (проксимални тубули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сивни транспор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19320" y="228600"/>
            <a:ext cx="6778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c0000"/>
                </a:solidFill>
                <a:latin typeface="Arial"/>
              </a:rPr>
              <a:t>Путеви транспорта воде и електролита из лумена бубрежних тубула у интерстицијум и перитубуларне капиларе (реапсорпција):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арацелуларни транспор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роз просторе између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Ултрафилтрација (масовни ток)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0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5257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убулски транспортни максимум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не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пстанц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убулима може реапсорбова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зависи од сатурације специфичних транспортних систе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438280"/>
            <a:ext cx="525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брежни п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г" за супстанце које имају тубул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ки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транспортни максимум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ниво у плазми на коме с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и пут појављује у урин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центрација у филтрату ће бити изна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ог пра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419720"/>
            <a:ext cx="5105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и максимум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7.77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 за глукоз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-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mg/100 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.22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о оптерећењ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: 12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.94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mol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517480" y="30492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РАНСПОРТНИ 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 2/3 укупне количине воде и електрол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 Na, Cl, бикарбоната, К,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а ресорпција глукозе и аминокиселина (котранспо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H јона (секундарни активни транспорт – контратранспорт са 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органских киселина и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а апсорпција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446360" cy="4495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042280" y="380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проксималног туб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активног трансп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цендентни део танког сегмента Хенлеове петље је високопермеабилан за в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цендентни део танког сегмента Хенлеове је непермеабилан за в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5029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990720" y="609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танког сегмента (десцендентног и асцендентног) Хенл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 АНАТОМИЈ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МОРФОЛОГИЈ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238880" y="44956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914400" y="1752480"/>
            <a:ext cx="7675560" cy="4573800"/>
            <a:chOff x="914400" y="1752480"/>
            <a:chExt cx="7675560" cy="4573800"/>
          </a:xfrm>
        </p:grpSpPr>
        <p:pic>
          <p:nvPicPr>
            <p:cNvPr id="52" name="Group 8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767556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9"/>
            <p:cNvSpPr/>
            <p:nvPr/>
          </p:nvSpPr>
          <p:spPr>
            <a:xfrm>
              <a:off x="7239960" y="4568400"/>
              <a:ext cx="816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јвећ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је посредовано 1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, 2-Cl, 1 K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ранспорт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белом асцендентном краку постоји и значајна парацелуларна реапсорпција катјона: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ели асцендентни крак ј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а течност постаје веома разређена у свом току према дисталном тубулу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ј за механизме који контролишу концент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1430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дебелог сегмента Хенл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лни тубул има д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 д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 дистални тубул (дилуциони сегмен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дистални тубул и 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дилуционог сегмен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функције као дебели сегмент Хенл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 петље (активни транспор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К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пропуст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4495680" cy="5791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85800" y="5335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истални туб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завршног дисталног тубу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 непропус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уре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ресорпц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секреција К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лавним ћелијам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ог дисталног тубу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чај у контроли концентрације ових јон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достеро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иш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K-ATP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не пумп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(примарни транспорт – интеркалатне ћелије), концентрисање до 1000x – значај у контроли ацидобазне равнотеж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 непропус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оду бе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 присуств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је пропу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2438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Транспорт воде и електролита из лумена бубрежних тубула у интерстицијум и перитубулске капиларе (силе које детерминишу обим враћања у кр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04920" y="304920"/>
            <a:ext cx="8534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c0000"/>
                </a:solidFill>
                <a:uFillTx/>
                <a:latin typeface="Times New Roman"/>
              </a:rPr>
              <a:t>Регулација тубулске реапсорпције</a:t>
            </a:r>
            <a:r>
              <a:rPr b="0" lang="sr-CS" sz="3200" spc="-1" strike="noStrike">
                <a:solidFill>
                  <a:srgbClr val="6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 нормалним, физиолошким условима износ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78.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/да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омерулотубулска равнотеж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пособност тубула да повећају брзину реапсорпције у одговору на повећање тубулског оптерећењ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к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еритубулских капилара и бубрежне интерстицијумске 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о што су алдостерон, ADH, ангиотензин II, атријумски натриуретски пептид, регулишу тубулску реапсорпцију воде и електрол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595296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533520" y="4191120"/>
          <a:ext cx="28954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91120"/>
                    <a:ext cx="28954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3962520" y="4495680"/>
            <a:ext cx="4952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s (ml/min) - 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mg/ml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концентрација супстанце у мокра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V (ml/min) - излучена мокраћ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у минут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mg/ml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концентрација супстанце у плазм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8600" y="100116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жни клиренс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 - clea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истити) је запремина плазме која се потпуно очисти од неке супстанце бубрезима у јединици времен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ml/min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иренс методе се могу користити за процену бубрежне функције. Израчунавањем клиренса одређених супстанци може се проценити бубрежни проток крви, величина гломерулске филтрације, као и тубулске реапсорпције или секре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лиренс плазме за неку супстанцу израчунава се по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895480" y="304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228600" y="121932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цену </a:t>
            </a:r>
            <a:r>
              <a:rPr b="0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еличине гломерулске филтраци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лиренс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ул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895480" y="304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4089240" cy="4419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28600" y="243828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 вредност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**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♂ :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2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 ♀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11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52280" y="601992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вредности клиренса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гле упоређивати, сви клиренси се обрачунавају на телесну површ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52280" y="441972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пстанца чији се клиренс одређује, мора да испуни следеће усло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није токсич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не везује за протеине плазм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не метаболише у бубрезима и другим ткиви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не утиче на функцију бубрег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се њена концентрација може прецизно мерити у плазми и у ур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1143000" y="990720"/>
            <a:ext cx="67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352680" cy="4733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2895480" y="685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КЛИРЕНСИ</a:t>
            </a:r>
            <a:r>
              <a:rPr b="0" lang="ru-RU" sz="24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28600" y="12952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i="1" lang="ru-RU" sz="2000" spc="-1" strike="noStrike">
                <a:solidFill>
                  <a:srgbClr val="cc0000"/>
                </a:solidFill>
                <a:latin typeface="Times New Roman"/>
              </a:rPr>
              <a:t>одређивање </a:t>
            </a:r>
            <a:r>
              <a:rPr b="0" i="1" lang="sr-CS" sz="2000" spc="-1" strike="noStrike">
                <a:solidFill>
                  <a:srgbClr val="cc0000"/>
                </a:solidFill>
                <a:latin typeface="Times New Roman"/>
              </a:rPr>
              <a:t>протока плазме и крви кроз бубре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клиренс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арааминохипурне кисел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A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04920" y="4800600"/>
            <a:ext cx="5333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Физиолошке вредности бубрежног проток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жног прото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азм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RP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жног прото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рв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RBF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200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2362320"/>
            <a:ext cx="586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клиренс неке супстанце могао бити мера бубрежног протока плазме, а тиме и крви, потребно је да се та супстанца потпуно уклони из плазме док крв пролази кроз бубреге и да се појави у урину. На пример, бубрези „очисте” плазму од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ском филтрацијом (20%) и тубулском секрецијом (80%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лиренса PAH може се израчунати бубрежни проток плазм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F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ако што се добијена вредност подели са 0,9 (90%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з RPF и познате вредност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крита, може се израчунати и бубрежни проток крви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F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40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у електролита која почиње у дебелом сегменту асцендентног крака Хенлејеве петље не прати реапсорпција воде (филтрат се дилуи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у крви не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ује се разређена мокра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96908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685800" y="91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c0000"/>
                </a:solidFill>
                <a:latin typeface="Times New Roman"/>
                <a:ea typeface="Times New Roman"/>
              </a:rPr>
              <a:t>БУБРЕЖНИ МЕХАНИЗАМ ЗА ИЗЛУЧИВАЊЕ РАЗРЕЂЕНЕ МОКРА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71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600" spc="-1" strike="noStrike">
                <a:solidFill>
                  <a:srgbClr val="6c0000"/>
                </a:solidFill>
                <a:latin typeface="Times New Roman"/>
              </a:rPr>
              <a:t>Бубрежни механизми за излучивање концентрисане мокраће -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противструјни механизам</a:t>
            </a:r>
            <a:r>
              <a:rPr b="1" lang="sr-Latn-C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0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0000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(одвија се у медули бубрега уз учешће јукстамедуларних нефрона и vasa recta-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sr-CS" sz="2000" spc="-1" strike="noStrike">
                <a:solidFill>
                  <a:srgbClr val="f72e0d"/>
                </a:solidFill>
                <a:latin typeface="Calibri"/>
              </a:rPr>
              <a:t>ПРОТИВСТРУЈНИ УМНОЖИВ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2e0d"/>
                </a:solidFill>
                <a:latin typeface="Calibri"/>
              </a:rPr>
              <a:t>                                      </a:t>
            </a:r>
            <a:r>
              <a:rPr b="1" lang="sr-CS" sz="2000" spc="-1" strike="noStrike">
                <a:solidFill>
                  <a:srgbClr val="f72e0d"/>
                </a:solidFill>
                <a:latin typeface="Calibri"/>
              </a:rPr>
              <a:t>ПРОТИВСТРУЈНИ ИЗМЕЊИВ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Стварањ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хиперосмолар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едуларном интерстициј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3. Задржавање вишка електролита у медуларном интерстицијуму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ротивструјни измењивачк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механизам у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бавезна запремина мок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: 0.5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и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133720" y="2133720"/>
            <a:ext cx="4419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8600" y="129492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енлеове петљ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асивна дифуз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уре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из сабирних цеви у интерстициј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33520" y="228600"/>
            <a:ext cx="807696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ПРОТИВСТРУЈНИ 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c0000"/>
                </a:solidFill>
                <a:latin typeface="Times New Roman"/>
              </a:rPr>
              <a:t>ПРОТИВСТРУЈНИ УМНОЖИВ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ханизам за додатно увећање осмоларности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515000" cy="358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228600" y="1295280"/>
            <a:ext cx="304920" cy="30492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3690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  <a:ea typeface="Arial"/>
              </a:rPr>
              <a:t>Функције бубре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лучивање највећ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а крајњих продуката метабол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запремине и састава телесних течности (осмолалности телесних течности и концентрације електр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ацидо-базне равноте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артеријск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, метаболизам и екскре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уконе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4937040" cy="512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4321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(при високим концентрација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осмоларност урина се готово изједначава са осмоларношћу интерстицијума медуле ~ 1200 mOsm/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Механизам повећања концентрациј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уре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окраћи и медуларном интерстициј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реа доприноси 40% хиперосмоларности бубрежног медуларног интерстицијума и концентрисању мокраћ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4400640" y="404640"/>
            <a:ext cx="4743360" cy="3926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4716360" y="4724280"/>
            <a:ext cx="4292640" cy="132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304920" y="609480"/>
            <a:ext cx="304560" cy="30492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3962520"/>
            <a:ext cx="304560" cy="304560"/>
          </a:xfrm>
          <a:prstGeom prst="rect">
            <a:avLst/>
          </a:prstGeom>
          <a:noFill/>
          <a:ln w="1260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716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у облик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цеви, веома су пропустни, имају мали проток крви (1-2% укупног протока крви кроз бубрег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лазма која протиче кроз нисходни крак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остаје хипер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због изласка воде у хипер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нтерстицијум и уласка јона из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плаз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која протиче кроз усходни крак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мањује осмоларност због изласка јона у хипоос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интерстицијум и уласка воде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ње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крв коју одвод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односи јако мало јона који остају концентрисани у медуларном интерстицију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на тај нач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испирање хиперосмотске мед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6027840"/>
            <a:ext cx="4572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ка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ункционисањ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sa rec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e као противструјног измењивача у бубрегу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 и уреа дифундују из узлазног крака крвног суда у силазни крак, док вода дифундује из силазног у узлазни крак васкуларне петљ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slika 37-16"/>
          <p:cNvPicPr/>
          <p:nvPr/>
        </p:nvPicPr>
        <p:blipFill>
          <a:blip r:embed="rId1"/>
          <a:stretch/>
        </p:blipFill>
        <p:spPr>
          <a:xfrm>
            <a:off x="4876920" y="1752480"/>
            <a:ext cx="3398760" cy="4343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533520" y="228600"/>
            <a:ext cx="8076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c0000"/>
                </a:solidFill>
                <a:latin typeface="Times New Roman"/>
              </a:rPr>
              <a:t>ПРОТИВСТРУЈНИ 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c0000"/>
                </a:solidFill>
                <a:latin typeface="Times New Roman"/>
              </a:rPr>
              <a:t>ПРОТИВСТРУЈНИ 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</a:rPr>
              <a:t>ИЗМЕЊИВ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ханизам за задржавање вишка електролита у медуларном интерстицију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значај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ASA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7924680" y="1523880"/>
            <a:ext cx="1067040" cy="145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57200" y="685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c0000"/>
                </a:solidFill>
                <a:latin typeface="Arial"/>
              </a:rPr>
              <a:t>РЕГУЛАЦИЈА ИЗЛУЧИВАЊА ВОДЕ И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" y="1676520"/>
            <a:ext cx="86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и електролита представља једну од основних функција бубрега и у циљу одржавања хомеостазе организма неопходно је да се излучивање воде и електролита подешава тако да прати величину уноса ових супстанци у организ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заступљенија осмотски активна честица екстрацелуларне течности и сви механизми који регулишу његову количину екстрацелуларно, регулишу и запремину екстрацелуларне т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Контрола излучивања воде и натријума механизм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ПРИТИСАК-НАТРИУ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негативне повратне спреге бубрези-телесна течност, који спречава нагомилавање воде и соли у телу. Први ефекат 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унос воде и со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већање запремине  ЕЦТ а тиме и крви. То доводи до повећања артеријског притиска, повећања хидростатског притиска у гломерулским капиларима и повећа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дица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излучивања мокраћ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де и натрију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мањење запремина ЕЦТ, а тиме и артеријски притисак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04920" y="-83160"/>
            <a:ext cx="883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РЕГУЛАЦИЈА САСТАВА И ЗАПРЕМИНЕ ЕКСТРАЦЕЛУЛАРНЕ ТЕЧНОСТИ (ЕЦ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O</a:t>
            </a: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сморецептор-</a:t>
            </a:r>
            <a:r>
              <a:rPr b="1" lang="en-U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и хормон (ADH</a:t>
            </a: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) систем повратне спреге   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и    механизам жеђ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52280" y="1981080"/>
            <a:ext cx="533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мулациј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идиуретског хормон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вазопресина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рохипофиз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зрокује повећана осмолалност ЕЦТ (активирају се осморецептори у хипоталамусу) и снижен артеријски притисак и смањена запремина крви (реагују рецептори у луку аорте и каротидним синусима, као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цептори ниског притиска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228600" y="411480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десно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во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детектују осморецептори, секретује с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иуретски хормо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урохипофизе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пропустљивост за воду дисталних тубула (завршни део), сабирн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а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ића у бубрезима. То доводи д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бције во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убрежних тубула. Последица је излучивање смањене запремине концентроване мокраћ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8673120" y="1054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5410080" y="1704960"/>
            <a:ext cx="3733920" cy="5153040"/>
            <a:chOff x="5410080" y="1704960"/>
            <a:chExt cx="3733920" cy="5153040"/>
          </a:xfrm>
        </p:grpSpPr>
        <p:grpSp>
          <p:nvGrpSpPr>
            <p:cNvPr id="171" name="Group 29"/>
            <p:cNvGrpSpPr/>
            <p:nvPr/>
          </p:nvGrpSpPr>
          <p:grpSpPr>
            <a:xfrm>
              <a:off x="5410080" y="1704960"/>
              <a:ext cx="3733920" cy="5153040"/>
              <a:chOff x="5410080" y="1704960"/>
              <a:chExt cx="3733920" cy="5153040"/>
            </a:xfrm>
          </p:grpSpPr>
          <p:grpSp>
            <p:nvGrpSpPr>
              <p:cNvPr id="172" name="Group 28"/>
              <p:cNvGrpSpPr/>
              <p:nvPr/>
            </p:nvGrpSpPr>
            <p:grpSpPr>
              <a:xfrm>
                <a:off x="5410080" y="1704960"/>
                <a:ext cx="3733920" cy="5153040"/>
                <a:chOff x="5410080" y="1704960"/>
                <a:chExt cx="3733920" cy="5153040"/>
              </a:xfrm>
            </p:grpSpPr>
            <p:grpSp>
              <p:nvGrpSpPr>
                <p:cNvPr id="173" name="Group 27"/>
                <p:cNvGrpSpPr/>
                <p:nvPr/>
              </p:nvGrpSpPr>
              <p:grpSpPr>
                <a:xfrm>
                  <a:off x="5410080" y="1704960"/>
                  <a:ext cx="3733920" cy="5153040"/>
                  <a:chOff x="5410080" y="1704960"/>
                  <a:chExt cx="3733920" cy="5153040"/>
                </a:xfrm>
              </p:grpSpPr>
              <p:grpSp>
                <p:nvGrpSpPr>
                  <p:cNvPr id="174" name="Group 26"/>
                  <p:cNvGrpSpPr/>
                  <p:nvPr/>
                </p:nvGrpSpPr>
                <p:grpSpPr>
                  <a:xfrm>
                    <a:off x="5410080" y="1704960"/>
                    <a:ext cx="3733920" cy="5153040"/>
                    <a:chOff x="5410080" y="1704960"/>
                    <a:chExt cx="3733920" cy="5153040"/>
                  </a:xfrm>
                </p:grpSpPr>
                <p:grpSp>
                  <p:nvGrpSpPr>
                    <p:cNvPr id="175" name="Group 25"/>
                    <p:cNvGrpSpPr/>
                    <p:nvPr/>
                  </p:nvGrpSpPr>
                  <p:grpSpPr>
                    <a:xfrm>
                      <a:off x="5410080" y="1704960"/>
                      <a:ext cx="3733920" cy="5153040"/>
                      <a:chOff x="5410080" y="1704960"/>
                      <a:chExt cx="3733920" cy="5153040"/>
                    </a:xfrm>
                  </p:grpSpPr>
                  <p:grpSp>
                    <p:nvGrpSpPr>
                      <p:cNvPr id="176" name="Group 24"/>
                      <p:cNvGrpSpPr/>
                      <p:nvPr/>
                    </p:nvGrpSpPr>
                    <p:grpSpPr>
                      <a:xfrm>
                        <a:off x="5410080" y="1704960"/>
                        <a:ext cx="3733920" cy="5153040"/>
                        <a:chOff x="5410080" y="1704960"/>
                        <a:chExt cx="3733920" cy="5153040"/>
                      </a:xfrm>
                    </p:grpSpPr>
                    <p:grpSp>
                      <p:nvGrpSpPr>
                        <p:cNvPr id="177" name="Group 23"/>
                        <p:cNvGrpSpPr/>
                        <p:nvPr/>
                      </p:nvGrpSpPr>
                      <p:grpSpPr>
                        <a:xfrm>
                          <a:off x="5410080" y="1704960"/>
                          <a:ext cx="3581640" cy="5153040"/>
                          <a:chOff x="5410080" y="1704960"/>
                          <a:chExt cx="3581640" cy="5153040"/>
                        </a:xfrm>
                      </p:grpSpPr>
                      <p:grpSp>
                        <p:nvGrpSpPr>
                          <p:cNvPr id="178" name="Group 22"/>
                          <p:cNvGrpSpPr/>
                          <p:nvPr/>
                        </p:nvGrpSpPr>
                        <p:grpSpPr>
                          <a:xfrm>
                            <a:off x="5410080" y="1704960"/>
                            <a:ext cx="3581640" cy="5153040"/>
                            <a:chOff x="5410080" y="1704960"/>
                            <a:chExt cx="3581640" cy="5153040"/>
                          </a:xfrm>
                        </p:grpSpPr>
                        <p:sp>
                          <p:nvSpPr>
                            <p:cNvPr id="179" name="Rectangle 2"/>
                            <p:cNvSpPr/>
                            <p:nvPr/>
                          </p:nvSpPr>
                          <p:spPr>
                            <a:xfrm>
                              <a:off x="6553080" y="1981080"/>
                              <a:ext cx="1905120" cy="307080"/>
                            </a:xfrm>
                            <a:prstGeom prst="rect">
                              <a:avLst/>
                            </a:prstGeom>
                            <a:solidFill>
                              <a:srgbClr val="ffea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Calibri"/>
                                </a:rPr>
                                <a:t>ДЕФИЦИТ ВОД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pic>
                          <p:nvPicPr>
                            <p:cNvPr id="180" name="Picture 3" descr=""/>
                            <p:cNvPicPr/>
                            <p:nvPr/>
                          </p:nvPicPr>
                          <p:blipFill>
                            <a:blip r:embed="rId1"/>
                            <a:stretch/>
                          </p:blipFill>
                          <p:spPr>
                            <a:xfrm>
                              <a:off x="5410080" y="1704960"/>
                              <a:ext cx="3581640" cy="515304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  <p:sp>
                        <p:nvSpPr>
                          <p:cNvPr id="181" name="Rectangle 11"/>
                          <p:cNvSpPr/>
                          <p:nvPr/>
                        </p:nvSpPr>
                        <p:spPr>
                          <a:xfrm>
                            <a:off x="6629400" y="2666880"/>
                            <a:ext cx="1981440" cy="307080"/>
                          </a:xfrm>
                          <a:prstGeom prst="rect">
                            <a:avLst/>
                          </a:prstGeom>
                          <a:solidFill>
                            <a:srgbClr val="ffead5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sr-C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Calibri"/>
                              </a:rPr>
                              <a:t>ОСМОЛАЛНОСТ ЕЦТ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2" name="Rectangle 3"/>
                        <p:cNvSpPr/>
                        <p:nvPr/>
                      </p:nvSpPr>
                      <p:spPr>
                        <a:xfrm>
                          <a:off x="7467480" y="2972160"/>
                          <a:ext cx="16765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Calibri"/>
                            </a:rPr>
                            <a:t>осморецептори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Rectangle 14"/>
                      <p:cNvSpPr/>
                      <p:nvPr/>
                    </p:nvSpPr>
                    <p:spPr>
                      <a:xfrm>
                        <a:off x="6781680" y="3276360"/>
                        <a:ext cx="1447920" cy="474480"/>
                      </a:xfrm>
                      <a:prstGeom prst="rect">
                        <a:avLst/>
                      </a:prstGeom>
                      <a:solidFill>
                        <a:srgbClr val="ffead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ADH секреција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 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(неурохипофиза)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Rectangle 17"/>
                    <p:cNvSpPr/>
                    <p:nvPr/>
                  </p:nvSpPr>
                  <p:spPr>
                    <a:xfrm>
                      <a:off x="6705360" y="4800600"/>
                      <a:ext cx="1828800" cy="600120"/>
                    </a:xfrm>
                    <a:prstGeom prst="rect">
                      <a:avLst/>
                    </a:prstGeom>
                    <a:solidFill>
                      <a:srgbClr val="ffea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еабилност за  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убул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Rectangle 19"/>
                  <p:cNvSpPr/>
                  <p:nvPr/>
                </p:nvSpPr>
                <p:spPr>
                  <a:xfrm>
                    <a:off x="6867000" y="5715000"/>
                    <a:ext cx="1549440" cy="336240"/>
                  </a:xfrm>
                  <a:prstGeom prst="rect">
                    <a:avLst/>
                  </a:prstGeom>
                  <a:solidFill>
                    <a:srgbClr val="ffead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реапсорбције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" name="Rectangle 21"/>
                <p:cNvSpPr/>
                <p:nvPr/>
              </p:nvSpPr>
              <p:spPr>
                <a:xfrm>
                  <a:off x="6868440" y="6400800"/>
                  <a:ext cx="1253880" cy="345240"/>
                </a:xfrm>
                <a:prstGeom prst="rect">
                  <a:avLst/>
                </a:prstGeom>
                <a:solidFill>
                  <a:srgbClr val="ffea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Излучена H</a:t>
                  </a:r>
                  <a:r>
                    <a:rPr b="0" lang="en-US" sz="1400" spc="-1" strike="noStrike" baseline="-30000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16"/>
              <p:cNvSpPr/>
              <p:nvPr/>
            </p:nvSpPr>
            <p:spPr>
              <a:xfrm>
                <a:off x="7016760" y="4143240"/>
                <a:ext cx="1329840" cy="307080"/>
              </a:xfrm>
              <a:prstGeom prst="rect">
                <a:avLst/>
              </a:prstGeom>
              <a:solidFill>
                <a:srgbClr val="ffe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ADH у плазми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30"/>
            <p:cNvSpPr/>
            <p:nvPr/>
          </p:nvSpPr>
          <p:spPr>
            <a:xfrm>
              <a:off x="6709320" y="1981080"/>
              <a:ext cx="1366560" cy="276480"/>
            </a:xfrm>
            <a:prstGeom prst="rect">
              <a:avLst/>
            </a:prstGeom>
            <a:solidFill>
              <a:srgbClr val="ffea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ЕФИЦИТ ВО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880" y="1299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ђ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дефинише као свесна жеља за вод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ти региони у централном нервном систему, који контролишу ослобађање ADH, контролишу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нос течности механизмом жеђ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 тако оба ова механизма заједно регулишу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тав и запремину екстрацелуларне т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09480" y="457200"/>
            <a:ext cx="8153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O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сморецептор-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и хормон (ADH</a:t>
            </a: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 систем повратне спреге   и    </a:t>
            </a:r>
            <a:r>
              <a:rPr b="1" lang="sr-CS" sz="2600" spc="-1" strike="noStrike">
                <a:solidFill>
                  <a:srgbClr val="6c0000"/>
                </a:solidFill>
                <a:latin typeface="Times New Roman"/>
                <a:ea typeface="Calibri"/>
              </a:rPr>
              <a:t>механизам жеђ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146240" y="2895480"/>
            <a:ext cx="45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у жеђ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161480" cy="327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28600" y="576360"/>
            <a:ext cx="89154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РЕГУЛАЦИЈА САСТАВА И ЗАПРЕМИНЕ ЕКСТРАЦЕЛУЛАРНЕ ТЕ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   </a:t>
            </a: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гиотензин 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II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је снажан вазоконстриктор и један од најмоћнијих хормона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ржавање N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воде у тел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ме ш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њихову реапсорпцију у бубрез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тник: Ангиотензи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синтетише у случај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жења крвног притиска и/или смањења запремине екстрацелуларне течности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гиотенз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ише секреци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лдосте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 реапсорпцију N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во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убрези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 истовремен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и вишку овог хормона настаје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покалијемија)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нтидиуретског хормона</a:t>
            </a: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ећава реапсорпцију вод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убрезима</a:t>
            </a: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ји такође учествују у одржавању састава и запремине екстрацелуларне т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нуто, у случају повећања запремине екстрацелуларне течности повећава се секреција </a:t>
            </a:r>
            <a:r>
              <a:rPr b="1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атријумског натриуретског пептида (АNP</a:t>
            </a:r>
            <a:r>
              <a:rPr b="0" lang="ru-RU" sz="2000" spc="-1" strike="noStrike">
                <a:solidFill>
                  <a:srgbClr val="6c0000"/>
                </a:solidFill>
                <a:latin typeface="Times New Roman"/>
                <a:ea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срцу, што последично доводи д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риурезе и диурез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380880" y="383400"/>
            <a:ext cx="83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c0000"/>
                </a:solidFill>
                <a:latin typeface="Times New Roman"/>
                <a:ea typeface="Calibri"/>
              </a:rPr>
              <a:t>УЛОГА БУБРЕГА У РЕГУЛАЦИЈИ АЦИДО-БАЗНЕ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1295280"/>
            <a:ext cx="914400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у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улацији ацидо-базне равнотеже бубрези имају кључну улогу. Једини од свих система у организму, способни су да излуче вишак киселина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телесних течности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тих киселина у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 зависно од исхране, метаболизма или болести.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у и ниво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 јона (HC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елесним течностима, и то делом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ом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филтрата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nov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ом,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ак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ем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о с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 у вишку у телесним течности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функција бубрега у регулацији ацидо-базне равнотеже је веома значајна јер је неопходно да се р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телесних течности одржава у веома уским границама. Наиме,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скоро свих ензимских система у телу је под утицајем концентрације водоникових јона. Стога, било која промена у концентрације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поремети ћелијске функције, а тиме и  функционисање читавог организ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495288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онцентрација водоникових јона је ниска у организму (0.00004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mmol/L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0.00000004mol/L)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, и обично се изражава на логаритамској скали, коришћењем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јединице и </a:t>
            </a:r>
            <a:r>
              <a:rPr b="0" lang="sr-CS" sz="1900" spc="-1" strike="noStrike">
                <a:solidFill>
                  <a:srgbClr val="0000ff"/>
                </a:solidFill>
                <a:latin typeface="Times New Roman"/>
              </a:rPr>
              <a:t>износи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7.4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6c0000"/>
                </a:solidFill>
                <a:latin typeface="Times New Roman"/>
              </a:rPr>
              <a:t>Системи за контролу ацидобазне равноте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добаз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мијски)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уферски систем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у телесним течностима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ва линија одбране, реагују у делићу секунде)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не уклањај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рганизма, већ их само реверзибилно везују и на тај начин спречавају промене pH телесних течности. Најзначајниј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ски сист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кстрацелуларно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трацелуларно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глоб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ритроцити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рочито од значаја у самим бубрезим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Респирацијск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за контролу ацидобазне равноте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друга линија одбране, реагује у току неколико минута, одговори се појављују у року од 3 до 10 минут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улише ацидо-базну равнотежу прилагођавањем плућне вентилације: смањена вентилација повећава концентрацију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рганизму и тиме се повећава ацидоза, док повећана вентилација делује обрнуто. Овај систем није у могућности да уклони вишак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орга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контролу ацидобазне равнотеж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ећа линија одбране од промена у ацидо-базној равнотежи, најмоћнији и најспорији сист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реме реаговања се мери сатима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дини способан да уклони виша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ових јона из организма. Бубрези регулиш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телесних течности на тај начин што излучују киселу или базну мокраћ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 flipH="1">
            <a:off x="304920" y="444960"/>
            <a:ext cx="85341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мална физиолошка ацидо-базна хомеостаза значи настаје удруженим напорима два органа, плућа и бубрега, тако да ацидо-базни поремећаји настају када се један или оба контролна система ошт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з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највећој мери регулишу концентрацију бикарбонат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поремећај који настаје због промена у концентрацији бикарбоната екстрацелуларне течности се означава ка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болички ацидо-базни поремећај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(Ацидоза настала услед смањене концентрације бикарбоната биће метаболичка ацидоза, док ће алкалоза  проузрокована повећањем концентрације бикарбоната имати назив метаболичка алкалоза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ућ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гулишу концентрациј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телесним течностима подешавањем величине вентилације и поремећај који настаје због промена 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кстрацелуларне течности се означава ка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пираторни ацидо-базни поремећај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(Ацидоза проузрокована порасто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је респираторна ацидоза, а алкалоза проузрокована снижавање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o</a:t>
            </a:r>
            <a:r>
              <a:rPr b="0" lang="sr-Latn-CS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 назива респираторна алкал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78480"/>
            <a:ext cx="9144000" cy="65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ЖНА КОНТРОЛА АЦИДО-БАЗНЕ РАВНОТ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брез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ествују у регулацији ацидо-базне равнотеже 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т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нцен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икарбонатних јон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екстрацелуларној теч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тр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нцен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ников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јо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екстрацелуларној теч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ем три механиз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цијом водоникових ј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псорпцијом филтрираних бикарбонатних јона;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тезом нових бикарбонатних ј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он филтрације плазме у гломерулским капиларима, у скоро свим деловима тубулског система врши се реапсорпц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секреција водоникових јона. Највећа реапсорпција бикарбоната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0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 и секреције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механизм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ундарно активног контратранспор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упрот концентрационом градијенту од 3–4 пута) се дешава 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ксималн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убулима бубрега (80–90%). Тада се за сва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товани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апсорбу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1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вши од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талних тубула бубрег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вршни део) и надаље у сабирним тубулима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оникови јони се секретују механизмо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арно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анспор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супрот концентрационом градијенту од чак 1.000 пута)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з апикалну мембрану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калат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ћелиј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чему се за сва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ретовани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апсорбу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CO</a:t>
            </a:r>
            <a:r>
              <a:rPr b="1" lang="sr-Latn-CS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, своју улогу у регулацији ацидо-базне равнотеже бубрези остваруј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лучивањем киселе мокраћ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ада с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лазе у вишку у екстрацелуларној течности (ацидоза), и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лучивањем базне мокраћ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условима смањене концентрациј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трацелуларној теч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алкал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09480"/>
            <a:ext cx="373392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НЕФ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фро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основна функционалана јединица бубрега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 000 000 нефрона у једном бубрег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н 40. год., број функционалних нефрона се смањује за око 10% сваких 10 г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елови нефр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ломеру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оз који се филтрира велика количина течности из крви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Тубулски сист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 којем се филтрирана течност претвара у мокраћ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81080" y="304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ФУНКЦИОНАЛ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ФОЛОГ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7243560" y="5715000"/>
            <a:ext cx="61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609480" y="152280"/>
            <a:ext cx="7620120" cy="5616720"/>
            <a:chOff x="609480" y="152280"/>
            <a:chExt cx="7620120" cy="5616720"/>
          </a:xfrm>
        </p:grpSpPr>
        <p:grpSp>
          <p:nvGrpSpPr>
            <p:cNvPr id="201" name="Group 23"/>
            <p:cNvGrpSpPr/>
            <p:nvPr/>
          </p:nvGrpSpPr>
          <p:grpSpPr>
            <a:xfrm>
              <a:off x="609480" y="152280"/>
              <a:ext cx="7620120" cy="5616720"/>
              <a:chOff x="609480" y="152280"/>
              <a:chExt cx="7620120" cy="5616720"/>
            </a:xfrm>
          </p:grpSpPr>
          <p:grpSp>
            <p:nvGrpSpPr>
              <p:cNvPr id="202" name="Group 20"/>
              <p:cNvGrpSpPr/>
              <p:nvPr/>
            </p:nvGrpSpPr>
            <p:grpSpPr>
              <a:xfrm>
                <a:off x="609480" y="380880"/>
                <a:ext cx="7620120" cy="5388120"/>
                <a:chOff x="609480" y="380880"/>
                <a:chExt cx="7620120" cy="5388120"/>
              </a:xfrm>
            </p:grpSpPr>
            <p:grpSp>
              <p:nvGrpSpPr>
                <p:cNvPr id="203" name="Group 19"/>
                <p:cNvGrpSpPr/>
                <p:nvPr/>
              </p:nvGrpSpPr>
              <p:grpSpPr>
                <a:xfrm>
                  <a:off x="609480" y="380880"/>
                  <a:ext cx="7620120" cy="5388120"/>
                  <a:chOff x="609480" y="380880"/>
                  <a:chExt cx="7620120" cy="5388120"/>
                </a:xfrm>
              </p:grpSpPr>
              <p:grpSp>
                <p:nvGrpSpPr>
                  <p:cNvPr id="204" name="Group 18"/>
                  <p:cNvGrpSpPr/>
                  <p:nvPr/>
                </p:nvGrpSpPr>
                <p:grpSpPr>
                  <a:xfrm>
                    <a:off x="609480" y="380880"/>
                    <a:ext cx="7620120" cy="5388120"/>
                    <a:chOff x="609480" y="380880"/>
                    <a:chExt cx="7620120" cy="5388120"/>
                  </a:xfrm>
                </p:grpSpPr>
                <p:pic>
                  <p:nvPicPr>
                    <p:cNvPr id="205" name="Picture 5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609480" y="380880"/>
                      <a:ext cx="7620120" cy="538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06" name="Group 15"/>
                    <p:cNvGrpSpPr/>
                    <p:nvPr/>
                  </p:nvGrpSpPr>
                  <p:grpSpPr>
                    <a:xfrm>
                      <a:off x="2895480" y="609480"/>
                      <a:ext cx="533160" cy="779400"/>
                      <a:chOff x="2895480" y="609480"/>
                      <a:chExt cx="533160" cy="779400"/>
                    </a:xfrm>
                  </p:grpSpPr>
                  <p:sp>
                    <p:nvSpPr>
                      <p:cNvPr id="207" name="AutoShape 2"/>
                      <p:cNvSpPr/>
                      <p:nvPr/>
                    </p:nvSpPr>
                    <p:spPr>
                      <a:xfrm>
                        <a:off x="2971440" y="914040"/>
                        <a:ext cx="152280" cy="474840"/>
                      </a:xfrm>
                      <a:prstGeom prst="downArrow">
                        <a:avLst>
                          <a:gd name="adj1" fmla="val 50000"/>
                          <a:gd name="adj2" fmla="val 84682"/>
                        </a:avLst>
                      </a:prstGeom>
                      <a:solidFill>
                        <a:srgbClr val="89b0ff"/>
                      </a:solidFill>
                      <a:ln w="9360">
                        <a:solidFill>
                          <a:srgbClr val="0d71c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vert="eaVer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TextBox 11"/>
                      <p:cNvSpPr/>
                      <p:nvPr/>
                    </p:nvSpPr>
                    <p:spPr>
                      <a:xfrm>
                        <a:off x="2895480" y="609480"/>
                        <a:ext cx="5331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ff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800" spc="-1" strike="noStrike" baseline="30000">
                            <a:solidFill>
                              <a:srgbClr val="0000ff"/>
                            </a:solidFill>
                            <a:latin typeface="Arial"/>
                          </a:rPr>
                          <a:t>+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9" name="Group 16"/>
                  <p:cNvGrpSpPr/>
                  <p:nvPr/>
                </p:nvGrpSpPr>
                <p:grpSpPr>
                  <a:xfrm>
                    <a:off x="5181480" y="609480"/>
                    <a:ext cx="533160" cy="779400"/>
                    <a:chOff x="5181480" y="609480"/>
                    <a:chExt cx="533160" cy="779400"/>
                  </a:xfrm>
                </p:grpSpPr>
                <p:sp>
                  <p:nvSpPr>
                    <p:cNvPr id="210" name="AutoShape 2"/>
                    <p:cNvSpPr/>
                    <p:nvPr/>
                  </p:nvSpPr>
                  <p:spPr>
                    <a:xfrm>
                      <a:off x="5257440" y="914040"/>
                      <a:ext cx="152280" cy="474840"/>
                    </a:xfrm>
                    <a:prstGeom prst="downArrow">
                      <a:avLst>
                        <a:gd name="adj1" fmla="val 50000"/>
                        <a:gd name="adj2" fmla="val 84682"/>
                      </a:avLst>
                    </a:prstGeom>
                    <a:solidFill>
                      <a:srgbClr val="89b0ff"/>
                    </a:solidFill>
                    <a:ln w="9360">
                      <a:solidFill>
                        <a:srgbClr val="0d71c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TextBox 13"/>
                    <p:cNvSpPr/>
                    <p:nvPr/>
                  </p:nvSpPr>
                  <p:spPr>
                    <a:xfrm>
                      <a:off x="5181480" y="609480"/>
                      <a:ext cx="53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2" name="Group 17"/>
                <p:cNvGrpSpPr/>
                <p:nvPr/>
              </p:nvGrpSpPr>
              <p:grpSpPr>
                <a:xfrm>
                  <a:off x="6400800" y="1676160"/>
                  <a:ext cx="914400" cy="368280"/>
                  <a:chOff x="6400800" y="1676160"/>
                  <a:chExt cx="914400" cy="368280"/>
                </a:xfrm>
              </p:grpSpPr>
              <p:sp>
                <p:nvSpPr>
                  <p:cNvPr id="213" name="AutoShape 3"/>
                  <p:cNvSpPr/>
                  <p:nvPr/>
                </p:nvSpPr>
                <p:spPr>
                  <a:xfrm>
                    <a:off x="6400800" y="1828440"/>
                    <a:ext cx="457200" cy="152280"/>
                  </a:xfrm>
                  <a:prstGeom prst="leftArrow">
                    <a:avLst>
                      <a:gd name="adj1" fmla="val 50000"/>
                      <a:gd name="adj2" fmla="val 91294"/>
                    </a:avLst>
                  </a:prstGeom>
                  <a:solidFill>
                    <a:srgbClr val="89b0ff"/>
                  </a:solidFill>
                  <a:ln w="9360">
                    <a:solidFill>
                      <a:srgbClr val="0d71c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Box 14"/>
                  <p:cNvSpPr/>
                  <p:nvPr/>
                </p:nvSpPr>
                <p:spPr>
                  <a:xfrm>
                    <a:off x="6781680" y="167616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H</a:t>
                    </a:r>
                    <a:r>
                      <a:rPr b="1" lang="en-US" sz="1800" spc="-1" strike="noStrike" baseline="30000">
                        <a:solidFill>
                          <a:srgbClr val="0000ff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TextBox 21"/>
              <p:cNvSpPr/>
              <p:nvPr/>
            </p:nvSpPr>
            <p:spPr>
              <a:xfrm>
                <a:off x="2057040" y="152280"/>
                <a:ext cx="1981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секундарно активни контратранспорт H</a:t>
                </a:r>
                <a:r>
                  <a:rPr b="0" lang="en-US" sz="1200" spc="-1" strike="noStrike" baseline="30000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+ </a:t>
                </a:r>
                <a:r>
                  <a:rPr b="0" lang="en-US" sz="12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са Na</a:t>
                </a:r>
                <a:r>
                  <a:rPr b="0" lang="en-US" sz="1200" spc="-1" strike="noStrike" baseline="30000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Box 22"/>
            <p:cNvSpPr/>
            <p:nvPr/>
          </p:nvSpPr>
          <p:spPr>
            <a:xfrm>
              <a:off x="5105520" y="456840"/>
              <a:ext cx="259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римарно активни транспорт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2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+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4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а бикарбонат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екреција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личитим сегментима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х тубула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ни су проценти филтрационог оптерећења бикарбоната које апсорбују различити тубулски сегменти и реапсорбован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/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под нормалним условима, означено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им стрелицам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им стрелицам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ена је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вши од проксималног тубула (механизмо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о активног контратранспорта са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дисталног тубула и надаље механизмо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 активног транспорт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505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Гломерул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man-овој капсул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аферентна артериола (крв улази у гломерул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еферентна артериола (крв излази из гломерул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37339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Тубулски систе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и 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Хенл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а петљ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а. десцендентни (танки) сегмен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б. асцендентни (танки) сегмен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. асцендентни (дебели) сегмент (на завр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етку одмах до проксималног дела дисталног тубула се налази macula dens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дистални 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сабирн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тубу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кортикални сабирни канали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медуларни сабирни каналић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8" descr="D:\Users\Jovana Joksimovic\Desktop\Bubreg\Slika 2.jpg"/>
          <p:cNvPicPr/>
          <p:nvPr/>
        </p:nvPicPr>
        <p:blipFill>
          <a:blip r:embed="rId1"/>
          <a:stretch/>
        </p:blipFill>
        <p:spPr>
          <a:xfrm>
            <a:off x="3962520" y="1219320"/>
            <a:ext cx="4971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Врсте нефро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кортикални нефрони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(80%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, имају кратке Хенлеове петље које продиру само делимично у медулу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 у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стварањ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  <a:ea typeface="Arial"/>
              </a:rPr>
              <a:t> мокра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јукстамедуларни нефрони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(20%), имају дуге Хенлеове петље које се протежу дубоко у медулу – функција: стварање и концентрисање мокра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 дугачки танки сегмент Хенлеове петљ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 vasa recta (специјализовани перитубулски капилари који се спуштају дубо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у медулу пратећи Хенлеову петљу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70664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излуч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мокраћни канали) мокраће у бубрежном систе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филтрациј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гломеру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реапсорп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тубу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екре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тубу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06920" y="6019920"/>
            <a:ext cx="90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a2"/>
                </a:solidFill>
                <a:latin typeface="Times New Roman"/>
              </a:rPr>
              <a:t>Уринарна е</a:t>
            </a:r>
            <a:r>
              <a:rPr b="0" lang="sr-Latn-CS" sz="2600" spc="-1" strike="noStrike">
                <a:solidFill>
                  <a:srgbClr val="0000a2"/>
                </a:solidFill>
                <a:latin typeface="Times New Roman"/>
              </a:rPr>
              <a:t>кскреција</a:t>
            </a:r>
            <a:r>
              <a:rPr b="0" lang="ru-RU" sz="2600" spc="-1" strike="noStrike">
                <a:solidFill>
                  <a:srgbClr val="0000a2"/>
                </a:solidFill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05080" cy="4654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НОВНЕ КОМПОНЕНТЕ БУБРЕЖ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24000" y="6922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ломерулс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филтрациј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ва фаза стварања мок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80880" y="44197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ормалним, физиолошким условима брз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омерулске филтрације код одрасле особе износи о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l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oк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литара на д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21337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мокраће почиње процесом гломерулске филтрације, филтрирањем плазме кроз гломерулске капиларе у Боуманову капсулу. Већина супстанци, осим протеина, из плазме пролази кроз фенестриране капиларе, тако да је њихова концентрација у гломерулском филтрату приближно иста као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7:57:18Z</dcterms:created>
  <dc:creator>PC HOME</dc:creator>
  <dc:description/>
  <dc:language>en-US</dc:language>
  <cp:lastModifiedBy>Suzana Pantovic</cp:lastModifiedBy>
  <dcterms:modified xsi:type="dcterms:W3CDTF">2021-11-14T17:29:24Z</dcterms:modified>
  <cp:revision>169</cp:revision>
  <dc:subject/>
  <dc:title>Slide 1</dc:title>
</cp:coreProperties>
</file>